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F5A-A45E-4965-9E4F-0A785EA7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4F7-AB9C-49C0-9F9D-225DA0F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077-5567-4559-AC28-62531E2B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944-5B24-4A81-BBC5-55A063C3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0F3-3D3F-4366-BC7A-E0BED447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C2C-D2F8-4E9D-981B-7BFB3378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B27-DE84-402E-AADD-7402CD1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2F6C-B6A3-4B45-8C77-B2A77ED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EB8A-A4DB-4EC5-9122-5F9EF61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987-0A65-4BBC-B4FF-84FD9B1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141-6CF1-485F-8C88-7F3F6D6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0EE-BF2F-4082-8F24-FF5B1D7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E2B-F935-41A9-806D-D72BCAE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08F-F03A-4A1F-BC78-B1753CF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637-5C07-4FB2-9654-5C09A97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C7E-A733-4DB9-B3D0-5242AA6B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75A-8BDD-48A9-9834-F4A8CA44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3EE-1D44-491C-AE77-111F8509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F51-71E6-4A1E-9B24-647F160A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A80-ADA4-4F38-8E82-0676F81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589-6C0F-49D7-91E9-23C6E24E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834-46D3-45FB-8DB7-2552ACA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7EB-E626-458A-97B7-7DF8A05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EB0-F392-4565-9C74-81FD2AB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8E4-CFA0-4E19-940B-7CBD39E6A4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75EB-0245-48C5-B99A-74B77DCC6F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n’t be dense about den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together liquids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is picture from your book. 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 – Try with your neighb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 – Try on your ow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er Scientist Question of the D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has a book, a ruler, and a bal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Jake find the density of the book with the tools he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MCj02875010000[1]"/>
          <p:cNvPicPr/>
          <p:nvPr/>
        </p:nvPicPr>
        <p:blipFill>
          <a:blip r:embed="rId1"/>
          <a:stretch/>
        </p:blipFill>
        <p:spPr>
          <a:xfrm>
            <a:off x="7010280" y="3962520"/>
            <a:ext cx="147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hat is dens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  Think of it as “how tightly” the matter particles (atoms or molecules) are pac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ser together the particles, the more dense the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342900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42900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752480" y="3733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209680" y="4419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2590920" y="3733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8954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6765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5943600" y="39625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952880" y="4114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4952880" y="44956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525780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/>
          <p:cNvSpPr/>
          <p:nvPr/>
        </p:nvSpPr>
        <p:spPr>
          <a:xfrm>
            <a:off x="5029200" y="3886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5562720" y="3886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4876920" y="35812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1819800" y="57150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second square has more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refore it has more m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1238760" y="502920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What changed between the two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16" descr=""/>
          <p:cNvPicPr/>
          <p:nvPr/>
        </p:nvPicPr>
        <p:blipFill>
          <a:blip r:embed="rId1"/>
          <a:stretch/>
        </p:blipFill>
        <p:spPr>
          <a:xfrm>
            <a:off x="2724120" y="5486400"/>
            <a:ext cx="3255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hat is dens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g/mL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he units for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259092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ensity formula.jpg"/>
          <p:cNvPicPr/>
          <p:nvPr/>
        </p:nvPicPr>
        <p:blipFill>
          <a:blip r:embed="rId1"/>
          <a:stretch/>
        </p:blipFill>
        <p:spPr>
          <a:xfrm>
            <a:off x="6095880" y="381960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 the triangle to help you solve problem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up w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for a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eft with wha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ith the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sosceles Triangle 3"/>
          <p:cNvSpPr/>
          <p:nvPr/>
        </p:nvSpPr>
        <p:spPr>
          <a:xfrm>
            <a:off x="2819520" y="914400"/>
            <a:ext cx="5867280" cy="51814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5"/>
          <p:cNvSpPr/>
          <p:nvPr/>
        </p:nvSpPr>
        <p:spPr>
          <a:xfrm>
            <a:off x="4267080" y="36576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7"/>
          <p:cNvSpPr/>
          <p:nvPr/>
        </p:nvSpPr>
        <p:spPr>
          <a:xfrm>
            <a:off x="5715000" y="36576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8" descr=""/>
          <p:cNvPicPr/>
          <p:nvPr/>
        </p:nvPicPr>
        <p:blipFill>
          <a:blip r:embed="rId1"/>
          <a:stretch/>
        </p:blipFill>
        <p:spPr>
          <a:xfrm>
            <a:off x="3803760" y="4248000"/>
            <a:ext cx="1463400" cy="181800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9" descr=""/>
          <p:cNvPicPr/>
          <p:nvPr/>
        </p:nvPicPr>
        <p:blipFill>
          <a:blip r:embed="rId2"/>
          <a:stretch/>
        </p:blipFill>
        <p:spPr>
          <a:xfrm>
            <a:off x="4992840" y="2036880"/>
            <a:ext cx="1444320" cy="181584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10" descr=""/>
          <p:cNvPicPr/>
          <p:nvPr/>
        </p:nvPicPr>
        <p:blipFill>
          <a:blip r:embed="rId3"/>
          <a:stretch/>
        </p:blipFill>
        <p:spPr>
          <a:xfrm>
            <a:off x="6156360" y="4248000"/>
            <a:ext cx="132408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also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’Licia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jluckey</cp:lastModifiedBy>
  <dcterms:modified xsi:type="dcterms:W3CDTF">2012-09-24T23:10:25Z</dcterms:modified>
  <cp:revision>6</cp:revision>
  <dc:subject/>
  <dc:title>Density</dc:title>
</cp:coreProperties>
</file>